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A70-3460-4EDA-92DB-3268CD741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findmeagift.co.uk/post/voyager-1-left-build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bougheygrade3.blogspot.ca/2011/11/astronomy-re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blogs.com/startswithabang/2010/09/13/geocentrism-was-galileo-wro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blogs.com/startswithabang/2010/09/13/geocentrism-was-galileo-wro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hnosullivan.wordpress.com/2012/11/19/the-greenhouse-gas-blanket-that-fails-to-warm-the-world/sun-heats-earth-on-one-hemisphere-onl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dayifoundout.com/index.php/2011/12/an-asteroid-field-would-actually-be-quite-safe-to-fly-throug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elegraph.co.uk/science/space/10506004/Comet-Ison-a-solar-fly-by-bearing-news-from-our-cosmic-pa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theos.com/blogs/progressivesecularhumanist/2014/02/science-literacy-1-in-4-americans-dont-know-the-earth-orbits-the-su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8C0-0F06-4B26-BC77-939AE6DF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4CE-7053-4577-9DD8-C4AB1CF6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6C1-07C5-4223-B399-1AADF82E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40C-E043-446C-A77C-27AB8435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8E8-E9BF-403B-AA86-DCB17218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72E-A759-4D55-916E-45B6D39F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407-7AD0-4142-BF45-8AFDBC5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279-4DEC-4B88-989E-1121237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9D0-EEBE-4AAD-8054-01AFB24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C18-83F5-44E5-9329-E502A3A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76D-2D09-4361-A1F6-FE574DD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259-6AFD-4EB0-AE31-1021629C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94CE-AA17-49F9-B741-880CF582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on in the Solar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vs.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pin) on their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ng out what is wh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1400" y="1981080"/>
            <a:ext cx="726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than 2000 years, people believed our solar system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565280"/>
            <a:ext cx="4114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in the 16th century that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1698480"/>
            <a:ext cx="38862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ical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is 150 million km away from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s in the Solar System are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tronomical un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417760"/>
            <a:ext cx="4572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rocky objects with irregula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located in the asteroid belt between Mars and 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2289240"/>
            <a:ext cx="44193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than 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 up in Earth’s atmosphere,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“shooting”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nants that land on Earth are called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unks of ice, dust, and rock that orbit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causes frozen gases to evaporate &amp; a long tail is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261144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vs.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olar System, all plane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bit)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232740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21:05:29Z</dcterms:created>
  <dc:creator>rubina khan</dc:creator>
  <dc:description/>
  <dc:language>en-US</dc:language>
  <cp:lastModifiedBy>rubina khan</cp:lastModifiedBy>
  <dcterms:modified xsi:type="dcterms:W3CDTF">2014-10-17T12:39:46Z</dcterms:modified>
  <cp:revision>27</cp:revision>
  <dc:subject/>
  <dc:title>Motion in the Solar System 9.1</dc:title>
</cp:coreProperties>
</file>